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B58-5CD0-410B-90C3-900726CE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928-ECD3-41DB-8107-FB113D9C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6F8-D628-4C29-896E-63FC8C31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901-5D3F-4724-ABE4-2B471069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1B6-FE7F-4655-B73D-5B525753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B27-1F6F-4E98-932B-23F1772E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7EE-2F7B-45F1-8DF7-314379AA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472-D5AB-4F04-98A3-9566BA60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145-50F1-469C-BB1F-9EEDA25C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790-1598-4C24-BBB2-856A11E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3C6-A956-4908-B5DA-10C10DA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F57-9E89-442D-9A58-42D0FFE2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D253-6B4D-402B-91B1-ACA0B6FC0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. 53-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9:14:03Z</dcterms:created>
  <dc:creator>MTSD MTSD</dc:creator>
  <dc:description/>
  <dc:language>en-US</dc:language>
  <cp:lastModifiedBy>MTSD MTSD</cp:lastModifiedBy>
  <dcterms:modified xsi:type="dcterms:W3CDTF">2009-02-26T19:16:14Z</dcterms:modified>
  <cp:revision>1</cp:revision>
  <dc:subject/>
  <dc:title>Great Expectations</dc:title>
</cp:coreProperties>
</file>